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3F30-8C74-44FE-BA7D-3327A3E9A0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D1D4-D11E-4F75-8B8D-CB789EB62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5D39-0446-4C07-B057-DEB70ECB9F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8CA-052B-481E-A03E-664064DF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7E67-D2B2-464D-A205-7D45DD8C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7B0-220F-4E65-AF51-B749DF8F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45D-9AC9-4F67-873C-BE2F8857A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6671-B227-4E07-940C-FF50257E2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D2F3-1AE8-48BA-B2BD-C6D7282C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5944-6A04-4860-B975-0F904DA4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F49E-3A78-4DD3-BBFF-30A8A25A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2DF3-8E5A-4347-B0CA-0E8F1A82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BB69-F1AF-4FF4-BA98-74E6B507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6BE4-6F46-4140-8A5C-ABDCC592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270-76CF-4E4F-8565-F5AF84E1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DEC5-4445-4881-8EFC-9F64DC0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DC43-71EB-4B5C-B4C9-C5F14CF8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C3EF-EBFB-4CCE-AD17-CDA0A35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236B-3AAA-4873-865B-476755C5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F1B9-C683-411F-A82F-532CF65B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D56-78E0-4D1E-87C3-AD9D50E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BDC-A5A0-4E69-BE1E-D50316B0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CC2-0C7F-4254-89D4-AEE6F9B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ADD-1AFF-4463-AFD0-B99A442B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08E-ECB2-4AEC-A62B-7DF9E1E4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658-E1BF-454F-96AF-06D4B32B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71B-A6D7-4846-B73C-65D49987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1BAC-80F2-4C88-A429-F1EF064E6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5A1-9D0F-4E15-BE79-AE983AAD9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ortsproductreview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Life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ement of th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Life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 managers need to manage a product through its life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e 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y th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 th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ition the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Modif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ing the product’s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od going to touch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ea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od min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aging Desi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tch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rket Modif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new custom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current customers to use more of th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prin (once daily to prevent heart attac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positio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s changing a product’s image in relation to its competitor’s i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hange in any one of the 4 P’s can cause this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Balance:  redesign its athletic shoes for older people who have wider f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longer have to compete with Nike and Reebok direct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 their promotions to reach older peop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duct Life Cyc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cycle represents the stages that a product goes through during its life in the market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stages a product goes thr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when the product is first introduced into the market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mo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nsumer awareness and getting customers to try the new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mming Pricing:  high pricing to cover research and development c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etration Pricing:  price a new product low in comparison to other products in order to quickly create de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owth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mpetitors enter the market if they see that a new product is success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wer Aid and Sportsade in response to Gato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be competitive at this stage, the product may be improved by adding new features or new products in that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ing distribution outlets is important at this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just convenience stores and supermarkets to vending mach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urity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es begin to slow down for the produ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customers may stop buying the prod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buyers are difficult to attr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end market sh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c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ales and profits begin to dr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ical advances can cause entire product categories to enter the decline st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nies end up dropping products in the decline phase from their product 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me Consider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products fit the life-cycle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DS:  products that become popular quickly and lose popularity just as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osh Ba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ontent Placeholder 3" descr="life_cycle_01.gif"/>
          <p:cNvPicPr/>
          <p:nvPr/>
        </p:nvPicPr>
        <p:blipFill>
          <a:blip r:embed="rId1"/>
          <a:srcRect l="-47382" t="0" r="-47382" b="0"/>
          <a:stretch/>
        </p:blipFill>
        <p:spPr>
          <a:xfrm>
            <a:off x="63360" y="380880"/>
            <a:ext cx="839484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0" y="639612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-rohan.sdsu.edu/~renglish/370/notes/chapt11/life_cycle_01.g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1:00:25Z</dcterms:created>
  <dc:creator>vtroutman</dc:creator>
  <dc:description/>
  <dc:language>en-US</dc:language>
  <cp:lastModifiedBy>cysd</cp:lastModifiedBy>
  <cp:lastPrinted>2012-05-03T11:09:44Z</cp:lastPrinted>
  <dcterms:modified xsi:type="dcterms:W3CDTF">2012-05-03T11:26:59Z</dcterms:modified>
  <cp:revision>13</cp:revision>
  <dc:subject/>
  <dc:title>Product Life Cycle</dc:title>
</cp:coreProperties>
</file>